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053-743D-40BF-9D68-0FCB6581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B02-5FC9-4614-9EFA-2FD8AA0B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72E-FB42-4620-BFD0-A00AE55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19B-70A5-45E0-9AD7-80582C3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0C4-EF7B-4416-A1DB-E055CF41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1C6-9026-42A9-B5C2-BBF6B96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A66-633C-4AA5-8D56-DF077F9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DE8-68EA-459A-B03E-3508FDE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F96-74C1-40DE-8CA3-A45D71E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5CD-E6AF-42F8-BAA4-6F02891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636-8EB1-407F-ABC0-87962EDE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2BD-D4C4-4902-BDBA-94E301A7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156A-3AEC-477B-BFC5-6077A141FCDF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FD5-C4DD-47A9-AF36-7159F1DC6751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Resonant)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2766" t="0" r="0" b="0"/>
          <a:stretch/>
        </p:blipFill>
        <p:spPr>
          <a:xfrm>
            <a:off x="0" y="609480"/>
            <a:ext cx="4162320" cy="568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57600" y="609480"/>
            <a:ext cx="54864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s-XPS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76520"/>
            <a:ext cx="11430000" cy="447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8           8  862.3000   14.0221    8.7641   00.1122   11.5062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8.3503    6.3324    3.60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0 8065.4790 .00  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5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D0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D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9L          6  862.3000   00.1022   11.5072    7.7213    5.787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3.29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Ni3+P5D10L2        2  862.3000   11.5092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76520"/>
            <a:ext cx="114300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3 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G2 = 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 -5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3 =  14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3 =  -3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1 2 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MIX 4    3. 3. 1.5 1.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   2 1 2   2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XHAM 4  1.0 1.0 0.0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   1 1   1 2   1 3   2 1   2 2   2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3    1 1    2 2    3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3sxps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INTER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shell03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4 1 14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01  D10  D08  P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9 p     3  110.0000     .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852   12.880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1 3d10p     1  110.0000     .0000   00.0004     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3s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5932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S01  D09 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  <a:ea typeface="MS Mincho"/>
              </a:rPr>
              <a:t>D09  P01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= 3s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3d</a:t>
            </a:r>
            <a:r>
              <a:rPr b="1" lang="en-US" sz="2800" spc="-1" strike="noStrike" baseline="30000">
                <a:solidFill>
                  <a:srgbClr val="0000ff"/>
                </a:solidFill>
                <a:latin typeface="Courier New"/>
                <a:ea typeface="MS Mincho"/>
              </a:rPr>
              <a:t>9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urier New"/>
                <a:ea typeface="MS Mincho"/>
              </a:rPr>
              <a:t>L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56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5340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1520" y="374508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No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3120" y="373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9440" y="76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MS Mincho"/>
              </a:rPr>
              <a:t>T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71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and 3s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33280" y="35812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2p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3480" y="5335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3sX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2040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90240" y="34290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729" t="0" r="4583" b="0"/>
          <a:stretch/>
        </p:blipFill>
        <p:spPr>
          <a:xfrm>
            <a:off x="0" y="685800"/>
            <a:ext cx="9144000" cy="4124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0413" t="16994" r="26352" b="19826"/>
          <a:stretch/>
        </p:blipFill>
        <p:spPr>
          <a:xfrm>
            <a:off x="533520" y="533520"/>
            <a:ext cx="5330880" cy="5849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962680" y="5257800"/>
            <a:ext cx="2960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Phys. Soc.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1, 449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705720" cy="5342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99080" y="5257800"/>
            <a:ext cx="23324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59, 3195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685800"/>
            <a:ext cx="9143280" cy="5715000"/>
            <a:chOff x="0" y="685800"/>
            <a:chExt cx="9143280" cy="5715000"/>
          </a:xfrm>
        </p:grpSpPr>
        <p:grpSp>
          <p:nvGrpSpPr>
            <p:cNvPr id="197" name=""/>
            <p:cNvGrpSpPr/>
            <p:nvPr/>
          </p:nvGrpSpPr>
          <p:grpSpPr>
            <a:xfrm>
              <a:off x="9360" y="689760"/>
              <a:ext cx="9123120" cy="5706000"/>
              <a:chOff x="9360" y="689760"/>
              <a:chExt cx="9123120" cy="57060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9360" y="689760"/>
                <a:ext cx="2457000" cy="695880"/>
                <a:chOff x="9360" y="689760"/>
                <a:chExt cx="2457000" cy="695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47600" y="68976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360" y="68976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467080" y="689760"/>
                <a:ext cx="2869200" cy="695880"/>
                <a:chOff x="2467080" y="689760"/>
                <a:chExt cx="2869200" cy="695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05320" y="68976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all electron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467080" y="68976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337360" y="689760"/>
                <a:ext cx="2128680" cy="695880"/>
                <a:chOff x="5337360" y="689760"/>
                <a:chExt cx="2128680" cy="695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474880" y="68976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partly filled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337360" y="68976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467120" y="689760"/>
                <a:ext cx="1665360" cy="695880"/>
                <a:chOff x="7467120" y="689760"/>
                <a:chExt cx="1665360" cy="695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04640" y="68976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direct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67120" y="68976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9360" y="1385640"/>
                <a:ext cx="2457000" cy="556560"/>
                <a:chOff x="9360" y="1385640"/>
                <a:chExt cx="2457000" cy="556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47600" y="1385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ground stat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360" y="1385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467080" y="1385640"/>
                <a:ext cx="2869200" cy="556560"/>
                <a:chOff x="2467080" y="1385640"/>
                <a:chExt cx="2869200" cy="5565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605320" y="1385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467080" y="1385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337360" y="1385640"/>
                <a:ext cx="2128680" cy="556560"/>
                <a:chOff x="5337360" y="1385640"/>
                <a:chExt cx="2128680" cy="5565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474880" y="1385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7360" y="1385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467120" y="1385640"/>
                <a:ext cx="1665360" cy="556560"/>
                <a:chOff x="7467120" y="1385640"/>
                <a:chExt cx="1665360" cy="5565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604640" y="1385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67120" y="1385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9360" y="1942200"/>
                <a:ext cx="2457000" cy="695880"/>
                <a:chOff x="9360" y="1942200"/>
                <a:chExt cx="2457000" cy="695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600" y="1942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 core hol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resonant)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1942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467080" y="1942200"/>
                <a:ext cx="2869200" cy="695880"/>
                <a:chOff x="2467080" y="1942200"/>
                <a:chExt cx="2869200" cy="695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05320" y="1942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67080" y="1942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337360" y="1942200"/>
                <a:ext cx="2128680" cy="695880"/>
                <a:chOff x="5337360" y="1942200"/>
                <a:chExt cx="2128680" cy="695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74880" y="1942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337360" y="1942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467120" y="1942200"/>
                <a:ext cx="1665360" cy="695880"/>
                <a:chOff x="7467120" y="1942200"/>
                <a:chExt cx="1665360" cy="695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604640" y="1942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-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67120" y="1942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9360" y="2638080"/>
                <a:ext cx="2457000" cy="556560"/>
                <a:chOff x="9360" y="2638080"/>
                <a:chExt cx="2457000" cy="556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47600" y="263808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s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360" y="263808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467080" y="2638080"/>
                <a:ext cx="2869200" cy="556560"/>
                <a:chOff x="2467080" y="2638080"/>
                <a:chExt cx="2869200" cy="556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605320" y="263808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 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467080" y="263808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337360" y="2638080"/>
                <a:ext cx="2128680" cy="556560"/>
                <a:chOff x="5337360" y="2638080"/>
                <a:chExt cx="2128680" cy="556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74880" y="263808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(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0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) 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337360" y="263808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467120" y="2638080"/>
                <a:ext cx="1665360" cy="556560"/>
                <a:chOff x="7467120" y="2638080"/>
                <a:chExt cx="1665360" cy="556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604640" y="263808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67120" y="263808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9360" y="3194640"/>
                <a:ext cx="2457000" cy="556560"/>
                <a:chOff x="9360" y="3194640"/>
                <a:chExt cx="2457000" cy="556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7600" y="31946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s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360" y="31946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467080" y="3194640"/>
                <a:ext cx="2869200" cy="556560"/>
                <a:chOff x="2467080" y="3194640"/>
                <a:chExt cx="2869200" cy="556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605320" y="31946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467080" y="31946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337360" y="3194640"/>
                <a:ext cx="2128680" cy="556560"/>
                <a:chOff x="5337360" y="3194640"/>
                <a:chExt cx="2128680" cy="556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74880" y="31946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37360" y="31946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467120" y="3194640"/>
                <a:ext cx="1665360" cy="556560"/>
                <a:chOff x="7467120" y="3194640"/>
                <a:chExt cx="1665360" cy="556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04640" y="31946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67120" y="31946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9360" y="3751200"/>
                <a:ext cx="2457000" cy="695880"/>
                <a:chOff x="9360" y="3751200"/>
                <a:chExt cx="2457000" cy="695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47600" y="37512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3p3p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9360" y="37512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67080" y="3751200"/>
                <a:ext cx="2869200" cy="695880"/>
                <a:chOff x="2467080" y="3751200"/>
                <a:chExt cx="2869200" cy="695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05320" y="37512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9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67080" y="37512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337360" y="3751200"/>
                <a:ext cx="2128680" cy="695880"/>
                <a:chOff x="5337360" y="3751200"/>
                <a:chExt cx="2128680" cy="695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474880" y="37512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4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337360" y="37512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467120" y="3751200"/>
                <a:ext cx="1665360" cy="695880"/>
                <a:chOff x="7467120" y="3751200"/>
                <a:chExt cx="1665360" cy="69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604640" y="37512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n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67120" y="37512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360" y="4447440"/>
                <a:ext cx="2457000" cy="556560"/>
                <a:chOff x="9360" y="4447440"/>
                <a:chExt cx="2457000" cy="556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47600" y="4447440"/>
                  <a:ext cx="21801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s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360" y="4447440"/>
                  <a:ext cx="24570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467080" y="4447440"/>
                <a:ext cx="2869200" cy="556560"/>
                <a:chOff x="2467080" y="4447440"/>
                <a:chExt cx="2869200" cy="556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605320" y="4447440"/>
                  <a:ext cx="25923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67080" y="4447440"/>
                  <a:ext cx="286920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337360" y="4447440"/>
                <a:ext cx="2128680" cy="556560"/>
                <a:chOff x="5337360" y="4447440"/>
                <a:chExt cx="2128680" cy="556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474880" y="4447440"/>
                  <a:ext cx="185256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1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7360" y="4447440"/>
                  <a:ext cx="212868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467120" y="4447440"/>
                <a:ext cx="1665360" cy="556560"/>
                <a:chOff x="7467120" y="4447440"/>
                <a:chExt cx="1665360" cy="556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04640" y="4447440"/>
                  <a:ext cx="1389240" cy="5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67120" y="4447440"/>
                  <a:ext cx="1665360" cy="55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5004000"/>
                <a:ext cx="2457000" cy="695880"/>
                <a:chOff x="9360" y="5004000"/>
                <a:chExt cx="2457000" cy="695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600" y="500400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p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500400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467080" y="5004000"/>
                <a:ext cx="2869200" cy="695880"/>
                <a:chOff x="2467080" y="5004000"/>
                <a:chExt cx="2869200" cy="695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05320" y="500400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67080" y="500400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337360" y="5004000"/>
                <a:ext cx="2128680" cy="695880"/>
                <a:chOff x="5337360" y="5004000"/>
                <a:chExt cx="2128680" cy="695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74880" y="500400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5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37360" y="500400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467120" y="5004000"/>
                <a:ext cx="1665360" cy="695880"/>
                <a:chOff x="7467120" y="5004000"/>
                <a:chExt cx="1665360" cy="695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04640" y="500400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67120" y="500400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9360" y="5699880"/>
                <a:ext cx="2457000" cy="695880"/>
                <a:chOff x="9360" y="5699880"/>
                <a:chExt cx="2457000" cy="695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47600" y="5699880"/>
                  <a:ext cx="21801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3d3d Auge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360" y="5699880"/>
                  <a:ext cx="24570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467080" y="5699880"/>
                <a:ext cx="2869200" cy="695880"/>
                <a:chOff x="2467080" y="5699880"/>
                <a:chExt cx="2869200" cy="695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605320" y="5699880"/>
                  <a:ext cx="25923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s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2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p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6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+ </a:t>
                  </a:r>
                  <a:r>
                    <a:rPr b="1" lang="en-GB" sz="2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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467080" y="5699880"/>
                  <a:ext cx="286920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337360" y="5699880"/>
                <a:ext cx="2128680" cy="695880"/>
                <a:chOff x="5337360" y="5699880"/>
                <a:chExt cx="2128680" cy="695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74880" y="5699880"/>
                  <a:ext cx="185256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</a:t>
                  </a:r>
                  <a:r>
                    <a:rPr b="1" lang="en-GB" sz="2200" spc="-1" strike="noStrike" baseline="30000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37360" y="5699880"/>
                  <a:ext cx="212868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467120" y="5699880"/>
                <a:ext cx="1665360" cy="695880"/>
                <a:chOff x="7467120" y="5699880"/>
                <a:chExt cx="1665360" cy="695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604640" y="5699880"/>
                  <a:ext cx="13892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200" spc="-1" strike="noStrike">
                      <a:solidFill>
                        <a:srgbClr val="0000ff"/>
                      </a:solidFill>
                      <a:latin typeface="Arial"/>
                      <a:ea typeface="Times New Roman"/>
                    </a:rPr>
                    <a:t>3d XPS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7120" y="5699880"/>
                  <a:ext cx="1665360" cy="695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0" y="685800"/>
              <a:ext cx="9143280" cy="5715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Resonant 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36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-ray 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380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3276720"/>
            <a:ext cx="0" cy="914400"/>
          </a:xfrm>
          <a:prstGeom prst="line">
            <a:avLst/>
          </a:prstGeom>
          <a:ln cap="sq"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1905120"/>
            <a:ext cx="0" cy="914400"/>
          </a:xfrm>
          <a:prstGeom prst="line">
            <a:avLst/>
          </a:prstGeom>
          <a:ln cap="sq"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600200"/>
            <a:ext cx="0" cy="914400"/>
          </a:xfrm>
          <a:prstGeom prst="line">
            <a:avLst/>
          </a:prstGeom>
          <a:ln cap="sq"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2666880"/>
            <a:ext cx="0" cy="9144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362320"/>
            <a:ext cx="2895480" cy="1981080"/>
          </a:xfrm>
          <a:prstGeom prst="rect">
            <a:avLst/>
          </a:prstGeom>
          <a:solidFill>
            <a:srgbClr val="ff0000">
              <a:alpha val="50000"/>
            </a:srgbClr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2895480" cy="1981440"/>
          </a:xfrm>
          <a:prstGeom prst="rect">
            <a:avLst/>
          </a:prstGeom>
          <a:solidFill>
            <a:srgbClr val="0066ff">
              <a:alpha val="50000"/>
            </a:srgbClr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41972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380880"/>
            <a:ext cx="2895840" cy="1981440"/>
          </a:xfrm>
          <a:prstGeom prst="rect">
            <a:avLst/>
          </a:prstGeom>
          <a:solidFill>
            <a:srgbClr val="800080">
              <a:alpha val="50000"/>
            </a:srgbClr>
          </a:solidFill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676520"/>
            <a:ext cx="11430000" cy="3111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0    0    1    1  SPIN00000000 SHELL00000000 INTE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 1 14 2-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2  D 8  P 0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 9  P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d8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5 3d9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3s0 3d9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5 3d09  -s0 3d9 p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372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1066680"/>
            <a:ext cx="9144000" cy="5295960"/>
            <a:chOff x="0" y="1066680"/>
            <a:chExt cx="9144000" cy="5295960"/>
          </a:xfrm>
        </p:grpSpPr>
        <p:sp>
          <p:nvSpPr>
            <p:cNvPr id="96" name=""/>
            <p:cNvSpPr/>
            <p:nvPr/>
          </p:nvSpPr>
          <p:spPr>
            <a:xfrm>
              <a:off x="0" y="1066680"/>
              <a:ext cx="9144000" cy="5295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" y="170856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" y="5078880"/>
              <a:ext cx="201168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35040" y="1708560"/>
              <a:ext cx="219456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08960" y="165312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08960" y="5078880"/>
              <a:ext cx="2560320" cy="64188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5040" y="5078880"/>
              <a:ext cx="2011320" cy="6418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" y="261504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2160" y="2671200"/>
              <a:ext cx="2194560" cy="224676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561600 h 2246760"/>
                <a:gd name="textAreaBottom" fmla="*/ 1685160 h 22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676520"/>
            <a:ext cx="11430000" cy="4391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0    0   14    4    4    0    4  SPIN00000000 SHELL00300000 INTER3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8065.47800     0000000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5 2-15 2-10         00      9 00000000 0 8065.4790 .00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5  S 2  D 9  D10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 6  S 0  D 9  D10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5  S 2  D10  D 9  p 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 6  S 0  D10  D 9  p 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2p5 3d10      2    0.0000   11.509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2+ 3s0 3d10p     2 1000.0000     .0002     .0000     .0000     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p5 3d10  -s0 3d10p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MS Mincho"/>
              </a:rPr>
              <a:t>1    .19275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1676520"/>
            <a:ext cx="11430000" cy="1282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   .0000   11.5072     .000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0 3d9 p     6 1000.0000     .0942     .0002     .0003     .000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0 3d9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MS Mincho"/>
              </a:rPr>
              <a:t>1    .1966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.00005    .00005    .00005    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90720"/>
            <a:ext cx="91440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3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2.2   -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1 1 2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1.8   -0.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2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2  1.0  0.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IP 1.837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GAMMA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 1      CI 1  DIP  0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EF EF2 = -4.5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AU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IADS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&lt;3s3s|1/r|2p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  <a:ea typeface="Times New Roman"/>
              </a:rPr>
              <a:t>p &gt;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71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914400" y="1828800"/>
            <a:ext cx="0" cy="99072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1828800"/>
            <a:ext cx="0" cy="990720"/>
          </a:xfrm>
          <a:prstGeom prst="line">
            <a:avLst/>
          </a:prstGeom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9pssp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o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143000"/>
            <a:ext cx="13487400" cy="39344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51  0.000010  0.000000  0.000000  0.000000  0.000000  0.000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13  0.000000  0.000002  0.000001  0.000000  0.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SFORMED MATRIX FOR TRIAD (    ^1+     </a:t>
            </a: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21-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1-    ) (1*     13) DIM :  1 : 0 : 1 ACTOR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-5.18101  -5.18056  -4.66663  -4.66229  -4.66200  -4.66185   0.219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196  0.000016  0.000002  0.000003  0.000000  0.000000  0.000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/KET :   0.21954   0.21972   0.35318   0.53119   0.53131   0.531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3.52398:  0.000026  0.000000  0.000011  0.000001  0.000000  0.0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tal intensity   0.00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5.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urier New"/>
                <a:ea typeface="MS Mincho"/>
              </a:rPr>
              <a:t>-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72640" y="68580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MEGA 20  ESTART -5.0  ESTEP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62120" y="1447920"/>
            <a:ext cx="5105160" cy="411480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62120" y="3352320"/>
            <a:ext cx="5029200" cy="2590920"/>
          </a:xfrm>
          <a:prstGeom prst="line">
            <a:avLst/>
          </a:prstGeom>
          <a:ln cap="sq" w="507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771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55872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7156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31104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3s3p 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62920" y="609480"/>
            <a:ext cx="6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00000" y="350532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0600" y="7621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MS Mincho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76720"/>
            <a:ext cx="4419720" cy="297180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536400"/>
            <a:ext cx="8839080" cy="5864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080" y="5715000"/>
            <a:ext cx="205992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finazzi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1800"/>
            <a:ext cx="2895840" cy="1981080"/>
          </a:xfrm>
          <a:prstGeom prst="rect">
            <a:avLst/>
          </a:prstGeom>
          <a:solidFill>
            <a:srgbClr val="00ff00">
              <a:alpha val="50000"/>
            </a:srgbClr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3s3s Res. Auger (2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533520"/>
            <a:ext cx="9144000" cy="5829120"/>
            <a:chOff x="0" y="533520"/>
            <a:chExt cx="9144000" cy="5829120"/>
          </a:xfrm>
        </p:grpSpPr>
        <p:grpSp>
          <p:nvGrpSpPr>
            <p:cNvPr id="108" name=""/>
            <p:cNvGrpSpPr/>
            <p:nvPr/>
          </p:nvGrpSpPr>
          <p:grpSpPr>
            <a:xfrm>
              <a:off x="0" y="533520"/>
              <a:ext cx="9144000" cy="5829120"/>
              <a:chOff x="0" y="533520"/>
              <a:chExt cx="9144000" cy="58291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533520"/>
                <a:ext cx="9144000" cy="5829120"/>
              </a:xfrm>
              <a:prstGeom prst="rect">
                <a:avLst/>
              </a:prstGeom>
              <a:solidFill>
                <a:srgbClr val="eaeaea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1520" y="132336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520" y="4933440"/>
                <a:ext cx="2011320" cy="45108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90936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9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1840" y="132336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08960" y="4933440"/>
                <a:ext cx="2559960" cy="451080"/>
              </a:xfrm>
              <a:custGeom>
                <a:avLst/>
                <a:gdLst>
                  <a:gd name="textAreaLeft" fmla="*/ 0 w 2559960"/>
                  <a:gd name="textAreaRight" fmla="*/ 2560320 w 255996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dip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480" y="1887120"/>
                <a:ext cx="2194560" cy="282060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704880 h 2820600"/>
                  <a:gd name="textAreaBottom" fmla="*/ 2115720 h 28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52160" y="2451240"/>
                <a:ext cx="2194560" cy="1579320"/>
              </a:xfrm>
              <a:custGeom>
                <a:avLst/>
                <a:gdLst>
                  <a:gd name="textAreaLeft" fmla="*/ 0 w 2194560"/>
                  <a:gd name="textAreaRight" fmla="*/ 2194920 w 2194560"/>
                  <a:gd name="textAreaTop" fmla="*/ 394920 h 1579320"/>
                  <a:gd name="textAreaBottom" fmla="*/ 1184760 h 157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8100" y="16200"/>
                    </a:lnTo>
                    <a:lnTo>
                      <a:pt x="8100" y="18900"/>
                    </a:lnTo>
                    <a:lnTo>
                      <a:pt x="5500" y="18900"/>
                    </a:lnTo>
                    <a:lnTo>
                      <a:pt x="10800" y="21600"/>
                    </a:lnTo>
                    <a:lnTo>
                      <a:pt x="16100" y="18900"/>
                    </a:lnTo>
                    <a:lnTo>
                      <a:pt x="13500" y="18900"/>
                    </a:lnTo>
                    <a:lnTo>
                      <a:pt x="13500" y="16200"/>
                    </a:lnTo>
                    <a:lnTo>
                      <a:pt x="21600" y="16200"/>
                    </a:lnTo>
                    <a:lnTo>
                      <a:pt x="21600" y="5400"/>
                    </a:lnTo>
                    <a:lnTo>
                      <a:pt x="13500" y="5400"/>
                    </a:lnTo>
                    <a:lnTo>
                      <a:pt x="13500" y="2700"/>
                    </a:lnTo>
                    <a:lnTo>
                      <a:pt x="16100" y="2700"/>
                    </a:lnTo>
                    <a:lnTo>
                      <a:pt x="10800" y="0"/>
                    </a:lnTo>
                    <a:lnTo>
                      <a:pt x="5500" y="2700"/>
                    </a:lnTo>
                    <a:lnTo>
                      <a:pt x="8100" y="2700"/>
                    </a:lnTo>
                    <a:lnTo>
                      <a:pt x="8100" y="5400"/>
                    </a:lnTo>
                    <a:close/>
                  </a:path>
                </a:pathLst>
              </a:custGeom>
              <a:solidFill>
                <a:srgbClr val="ccffff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Mixing t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52160" y="4256640"/>
                <a:ext cx="2194560" cy="1316160"/>
              </a:xfrm>
              <a:prstGeom prst="flowChartAlternateProcess">
                <a:avLst/>
              </a:prstGeom>
              <a:solidFill>
                <a:srgbClr val="ffff99"/>
              </a:solidFill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2p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5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A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s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0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Verdana"/>
                  </a:rPr>
                  <a:t>3d</a:t>
                </a:r>
                <a:r>
                  <a:rPr b="1" lang="en-US" sz="2000" spc="-1" strike="noStrike" baseline="30000">
                    <a:solidFill>
                      <a:srgbClr val="0000ff"/>
                    </a:solidFill>
                    <a:latin typeface="Verdana"/>
                  </a:rPr>
                  <a:t>10</a:t>
                </a:r>
                <a:r>
                  <a:rPr b="1" lang="en-US" sz="2000" spc="-1" strike="noStrike" u="sng">
                    <a:solidFill>
                      <a:srgbClr val="0000ff"/>
                    </a:solidFill>
                    <a:uFillTx/>
                    <a:latin typeface="Verdana"/>
                  </a:rPr>
                  <a:t>L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949440" y="4686480"/>
              <a:ext cx="548280" cy="564120"/>
            </a:xfrm>
            <a:prstGeom prst="downArrow">
              <a:avLst>
                <a:gd name="adj1" fmla="val 50000"/>
                <a:gd name="adj2" fmla="val 25722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9440" y="1323360"/>
              <a:ext cx="548280" cy="563760"/>
            </a:xfrm>
            <a:prstGeom prst="downArrow">
              <a:avLst>
                <a:gd name="adj1" fmla="val 50000"/>
                <a:gd name="adj2" fmla="val 25706"/>
              </a:avLst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733920"/>
            <a:ext cx="914400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d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g &gt; ??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286000" y="1676520"/>
            <a:ext cx="1143000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8    1.E-11-2   130   1.0  0.65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45.0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0.50 0.0  0.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28     Ni2+ 3d8               3D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2p5 3d09          2P05 3D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s     3S01 3P05 3D0999S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28     Ni2+ 3s1 3p5 3d9 d     3S01 3P05 3D0999D01                        4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73392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&lt;3s3p|1/r|2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s &gt;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Kinetic energy in Rydb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47760"/>
            <a:ext cx="2057400" cy="251460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19920" y="2133360"/>
            <a:ext cx="457200" cy="3352680"/>
          </a:xfrm>
          <a:prstGeom prst="line">
            <a:avLst/>
          </a:prstGeom>
          <a:ln cap="sq"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Verdana"/>
                <a:ea typeface="Times New Roman"/>
              </a:rPr>
              <a:t>als9ni2p3s3p.r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2p5 3d09      6  860.1660   11.5072    0.1022    7.7213    5.787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3.29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s 11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-9500.0000    1.4042    0.0942   14.3893   21.7354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3.5824    0.0004   17.7844   10.843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s1 3p5 3d9d 18-8500.0000    1.4042    0.0942    0.0002   14.3893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.0003    0.0003    0.0003   21.7354   13.5824    0.0004   17.78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.8434    0.0004    0.0004    0.0004    0.0004    0.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19415   0.2367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5 3d09  -s1 3p5 3d2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01005   0.00615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1 3p5 3d-s1 3p5 3d4   0.00005   0.00005   0.00005   0.00005   0.00005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2p5 3d09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-0.1850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2P//R1// 3D) 1.000HR  36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s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2+ 3d8            Ni2+ 3s1 3p5 3d9 d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urier New"/>
                <a:ea typeface="MS Mincho"/>
              </a:rPr>
              <a:t>0.00000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 //R1//   ) 0.000HR   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4343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ng Auger matrix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rcRect l="11458" t="0" r="0" b="0"/>
          <a:stretch/>
        </p:blipFill>
        <p:spPr>
          <a:xfrm>
            <a:off x="0" y="685800"/>
            <a:ext cx="4692600" cy="5553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990720"/>
            <a:ext cx="48769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s3s-non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&lt;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764240" cy="5819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vs. non-resonant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7813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7315200" cy="2373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905120" y="1143000"/>
            <a:ext cx="57909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p3d3d-Res. A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r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1/r|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708440" cy="64008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356080" y="5486400"/>
            <a:ext cx="27896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martensson99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nant Photoemission on Ni me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6095880" cy="582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80320" y="563868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8204" b="0"/>
          <a:stretch/>
        </p:blipFill>
        <p:spPr>
          <a:xfrm>
            <a:off x="0" y="990720"/>
            <a:ext cx="9144000" cy="269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P-CD Resonant Photoe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320" y="3505320"/>
            <a:ext cx="1857240" cy="45972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tjeng97a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800" y="4114800"/>
            <a:ext cx="8607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4,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,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6/24 = 1/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CD =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-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10/24 =5/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and Au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PS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pole transition 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lt;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| r |2p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3d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Auger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Coulomb operator (1/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&lt;3p3p |1/r |2p </a:t>
            </a:r>
            <a:r>
              <a:rPr b="0" lang="en-US" sz="3600" spc="-1" strike="noStrike">
                <a:solidFill>
                  <a:srgbClr val="00cc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770040"/>
            <a:ext cx="9144000" cy="6087960"/>
            <a:chOff x="0" y="770040"/>
            <a:chExt cx="9144000" cy="6087960"/>
          </a:xfrm>
        </p:grpSpPr>
        <p:sp>
          <p:nvSpPr>
            <p:cNvPr id="123" name=""/>
            <p:cNvSpPr/>
            <p:nvPr/>
          </p:nvSpPr>
          <p:spPr>
            <a:xfrm>
              <a:off x="0" y="770040"/>
              <a:ext cx="9144000" cy="60879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840" y="134280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840" y="359892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4520" y="1342800"/>
              <a:ext cx="216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6960" y="13057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66960" y="359892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4520" y="3598920"/>
              <a:ext cx="198540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720" y="205920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4160" y="198756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720" y="420804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4760" y="4315320"/>
              <a:ext cx="2165400" cy="1503720"/>
            </a:xfrm>
            <a:custGeom>
              <a:avLst/>
              <a:gdLst>
                <a:gd name="textAreaLeft" fmla="*/ 0 w 2165400"/>
                <a:gd name="textAreaRight" fmla="*/ 2165760 w 2165400"/>
                <a:gd name="textAreaTop" fmla="*/ 375840 h 1503720"/>
                <a:gd name="textAreaBottom" fmla="*/ 1127880 h 150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ixing t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7560" y="5927040"/>
              <a:ext cx="2526480" cy="429480"/>
            </a:xfrm>
            <a:custGeom>
              <a:avLst/>
              <a:gdLst>
                <a:gd name="textAreaLeft" fmla="*/ 0 w 2526480"/>
                <a:gd name="textAreaRight" fmla="*/ 2526840 w 252648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5120" y="5927040"/>
              <a:ext cx="1985040" cy="42948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r>
                <a:rPr b="1" lang="en-US" sz="2000" spc="-1" strike="noStrike" baseline="30000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PS (3 conf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05560" cy="5825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9099909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5  </a:t>
            </a:r>
            <a:r>
              <a:rPr b="1" lang="nl-NL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    2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99999999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D08  P05  D01  = 3d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8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2p</a:t>
            </a:r>
            <a:r>
              <a:rPr b="1" lang="en-GB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5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8ni2xps3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76520"/>
            <a:ext cx="1143000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8  P06  D1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8L          4    0.0000   12.2341    7.5981    0.0832    0.0000HR999999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10  P06  D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3+P6D9L2         2    0.0000    0.000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Photoemission (2p X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Inorganic Chemistry</cp:lastModifiedBy>
  <cp:lastPrinted>2000-09-25T15:41:05Z</cp:lastPrinted>
  <dcterms:modified xsi:type="dcterms:W3CDTF">2007-02-14T13:49:15Z</dcterms:modified>
  <cp:revision>30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